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A03-75E3-4DFA-B640-D081CFEE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085-FF31-4D15-A67E-EFBF7359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79F39-E3CA-473C-B6F1-6A021F5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5A52-5D94-4FEC-820E-538D0C42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C0414-7DB4-4F70-92DA-0DF245A6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CF4B2-FAC4-4A4D-BD6D-A1C2D01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39F72-8FFB-4F63-AA9D-C84B201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70DC7-EFAE-425E-BABD-4DA58A56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6D96B-0F0C-4E5C-9EBF-6469457D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61837-5299-4ABF-BFE7-559C95A2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A0846-3012-44AA-91E0-530DAC42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EAD29-0512-470E-9BD3-6DFF2F80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E32-0D75-4F28-9939-30C37BA4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91343-7BF1-46E6-94B5-CBCBDC80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BC82A-869C-4ECF-969D-3C0D70A3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3C53E-5EC3-41AD-B58C-29DA79B1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2591C-CC4C-4F3A-A854-BE254A5B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A3C6B-E66A-4AC5-909E-20C0BE6F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1B843-BBC9-415D-8CA5-4615135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E0BDB-2703-48A4-81A2-F07F661D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21AED-310D-4D5D-A1BC-2E6F3C71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D082B-CC23-487C-8DF0-9A86ED7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1AE82-61F7-449F-ABAC-27D9471C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158-10FA-4BD3-9C67-C3139C41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FFCD8-7D09-4879-85ED-296B2F7B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0ECF0-3267-4624-B4E3-1BD5D3A4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45865-514F-4048-BB55-1E68638B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A8EE4-F170-44A5-A8C4-3BB3150F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83FFC-402E-4B15-AB6B-3C0211BE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5D32D-1809-44DD-8302-D4E0A4FD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2BFE8-8B9A-4DA3-BE94-7697BE4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F92BF-8B83-4FEE-AFEB-9BFC69C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D5302-F588-4DDD-80D5-D739F76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8796F-9832-4138-81A2-8D4747A0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6FC7-E9F8-4954-AA3E-68D22176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B7B30-87BE-4366-8AEA-B7888880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87D3F-69C8-4DA0-925F-B1BE8EE7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DECD4-35C5-43ED-8216-6055234B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59680-D2A1-49E0-8327-E2F1188D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83992-DCA8-4FD9-AF39-8D189C52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FE15B-01E0-46EE-A614-1FAC0704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64180-1A69-4B9B-A75A-CA4EAB3C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E54AA-8DFE-43A1-9C2D-4ADC4A2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97E06-271B-4EBD-A848-5D1EACAA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7BE50-09A9-49D3-97BF-110A98B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86F3-96C9-4DD4-B139-C1B8E986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8B6CC-3B80-4D1C-8979-A89A6CC2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CFE04-D08D-4B6A-BA61-D517B6F9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BD6B6-A81C-4921-AF2A-DCE6A5D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31EDA-9CCC-4BCF-8465-CDBB5046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F12B9-E431-4F24-A081-1CA39716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221-4D4A-4436-A2D0-17506AED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2FDB-1C4A-47AE-9CDF-7DCB4C88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E94-5C2B-4AE8-B8C5-EEAA7CD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5EC9-4EC4-4FB5-90B9-2EEE0D26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5477-60FA-447C-92CD-49B2ABF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4D8-A3D0-40D5-9D57-F097A4D7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35D-BEC2-45DF-AC33-21482EE2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0B48-3363-4701-BA1F-FB269F07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29CE-3E38-4A46-BBF3-BD0F02D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538-B776-4EA8-8264-93085309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FEA8-E3AD-484E-AD96-8811A0BB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DA0E-3C54-4DA8-BD92-B70202FD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17BC-F9ED-46C1-BA15-AA8CDF30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AE71-6FA8-436A-9850-2FECDD0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ACFA-0CB8-459E-B8C3-0EF6C50D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5028-81F6-4299-AFE0-0EE629EC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EE1-A2A3-4B44-91B7-FDF28F3F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28A3-55F0-4060-83C9-46050ACE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E6C7-D3AD-4DF8-97F0-090CB32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039D-754D-4D01-AA87-6DECC6A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BFEB-262D-404E-96FB-EC1A7939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CA37-22DD-49EC-A53E-016F5FE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29B7-3B53-4E1F-AA72-F4A3B8AA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9162-D2E9-49DB-A35D-89ADC1D0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39DEA-6874-44DE-BFC6-D391D8CD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5F1E-0799-4842-9DE1-57213D05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47D8-0837-430F-B151-5F0C338E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57F-89C3-4351-A0C2-40598DE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A123-850F-45E9-9BD1-CA31143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AD89-7B2D-4AC9-A858-F9CE9E16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4CBF-1E63-4C31-B3D6-9C2F178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EE96-8507-487C-8799-E56FB254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904D-950A-4990-AA8C-564CCA1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E442-18FF-4154-968E-1A18947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1395-CE09-4BA2-8217-44ADA478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8F91-17F1-45D5-9213-522023DB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77E5-0098-4A3B-8397-AC10E7E4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22DD0-45E9-4BED-97D8-A020D30A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65C-B52A-4EA1-B748-64772C35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1D000-9ED9-4E9C-947E-A3669F37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CB75-E7DC-49FB-9966-58877597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CBAA-60CB-436C-A6CE-464ECB03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E6F6-7B3A-4687-9A83-DB91CCEC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5249-AF8E-4B48-80BD-9C20C11A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02487-B35C-4131-8698-B7B00314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87CD-3C2F-4F39-A5DA-1ABC5B70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9900-5C22-4223-A49E-DCE7F26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6E87-6BBA-4447-9DE9-172034B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E6396-F325-4A35-ADA6-97C61753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5E5-49F1-4C65-AA0B-D5C9D87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567F-B810-48FA-A1A5-6C93C11F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902F0-11E9-4D3D-A5D4-146532BD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BC38B-BCD0-47A2-8591-7E08351F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6989-278D-448E-8002-1B71DD21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4834-3738-412F-B1A4-C825DE29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B6642-28D1-4D0C-B697-5017CEF7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A0643-4C51-4507-AED6-75ECBCB7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13C9-998A-4DE6-BD3D-3F969B7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B72F1-E3DE-4CAF-A1F8-BE97968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96E44-0EE3-4229-B6A7-E9D4461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602-174D-42FB-BBDB-680797D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48543-FC6D-464E-8AED-5C2940D7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6717-79C1-4759-864D-D5D3FD51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4EA3-499D-4EE0-ACCA-45614B09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E4578-B6A9-4612-A3D1-70D9372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EEE2-4277-41E7-8210-79A39E2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13B6-7140-4D28-8DBE-579ADC8B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D2547-0C53-4789-9976-20677F10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D157C-F6A8-41F6-97F4-737CC87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79B0F-51DC-4890-83D4-44BEB982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EE9D3-880C-4630-A7F9-5BB2C6A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A9C-EE39-4D05-AD33-8AA544A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3D6AC-E781-4E5A-9E2C-38396736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31A10-EB3E-4EE6-930B-6DFF241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C08E2-2170-402B-B165-3F15A3E8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08003-0C9F-4D6A-BD71-5E8CFEBA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E9BBC-AC1D-4649-9026-2B06BCD7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BB4C-FC2D-43E6-8B3D-A4523033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1362C-A376-44D8-A408-41C0BA12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F2895-987F-481E-9C34-AD45247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FFD12-4C37-47B8-B8FD-3C0299EA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585D8-0214-4AAB-B0D7-231D81B9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D4E-1009-4C5A-994F-46DE3A8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4D0C9-0979-49E0-991D-D461AA62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AAA41-90DC-4D29-A2BF-8DF8CFD4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79D4A-C767-4404-9644-646A060F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CFC3A-23D0-4846-B842-DD4A9C4F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2615-65C2-486B-947E-67C959C0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45D4-46E6-46E0-8A18-3806EE7D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32A14-4DA6-48BB-A36B-B2C8E545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AE0E6-3B1F-40D1-BB25-8871BD6F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107A9-2910-4CE1-972C-6218501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22FAE-A4EE-497D-8C9E-55BB90E5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697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9698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29699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9700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9701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9702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9703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CAC5-5D6B-44A1-9D67-68B63AFAF4F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8C1-CA26-4A99-BDE5-5B651E97C07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CE26-C54B-4D34-B39D-04982841237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B70C-4A44-4ADF-9369-7B572682ACE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0721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30722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0723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0724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0725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0726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0727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25E9-C75E-44CA-B5C0-7542D732D00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8B00-FB71-474D-8772-B46BF6550B0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1896-84B9-4B40-AB42-86DCA91FD3A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CB83-A01E-4FC6-8752-B9A35AD2B64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F81-9A60-4102-A662-CCD919F36A3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CD9-81B3-4B55-BCA7-542994C6F76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47E6-6EDF-4AAD-955E-BB29EB1043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48C6-B66A-4D4A-94D3-110F355E6D6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3452760" y="1220760"/>
            <a:ext cx="52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华康勘亭流W9(P)"/>
                <a:ea typeface="华康勘亭流W9(P)"/>
              </a:rPr>
              <a:t>语文园地四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文本框 3"/>
          <p:cNvSpPr/>
          <p:nvPr/>
        </p:nvSpPr>
        <p:spPr>
          <a:xfrm>
            <a:off x="8240760" y="450720"/>
            <a:ext cx="998640" cy="25628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多音字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左大括号 5"/>
          <p:cNvSpPr/>
          <p:nvPr/>
        </p:nvSpPr>
        <p:spPr>
          <a:xfrm>
            <a:off x="1887480" y="641520"/>
            <a:ext cx="273240" cy="1382400"/>
          </a:xfrm>
          <a:custGeom>
            <a:avLst/>
            <a:gdLst>
              <a:gd name="textAreaLeft" fmla="*/ 174600 w 273240"/>
              <a:gd name="textAreaRight" fmla="*/ 273600 w 273240"/>
              <a:gd name="textAreaTop" fmla="*/ 68760 h 1382400"/>
              <a:gd name="textAreaBottom" fmla="*/ 1313640 h 138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3"/>
                  <a:pt x="10800" y="3445"/>
                </a:cubicBezTo>
                <a:lnTo>
                  <a:pt x="10800" y="7355"/>
                </a:lnTo>
                <a:cubicBezTo>
                  <a:pt x="10800" y="9078"/>
                  <a:pt x="5400" y="10800"/>
                  <a:pt x="0" y="10800"/>
                </a:cubicBezTo>
                <a:cubicBezTo>
                  <a:pt x="5400" y="10800"/>
                  <a:pt x="10800" y="12523"/>
                  <a:pt x="10800" y="14245"/>
                </a:cubicBezTo>
                <a:lnTo>
                  <a:pt x="10800" y="18155"/>
                </a:lnTo>
                <a:cubicBezTo>
                  <a:pt x="10800" y="198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文本框 7"/>
          <p:cNvSpPr/>
          <p:nvPr/>
        </p:nvSpPr>
        <p:spPr>
          <a:xfrm>
            <a:off x="843120" y="30448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文本框 1"/>
          <p:cNvSpPr/>
          <p:nvPr/>
        </p:nvSpPr>
        <p:spPr>
          <a:xfrm>
            <a:off x="1935000" y="45072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ō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文本框 2"/>
          <p:cNvSpPr/>
          <p:nvPr/>
        </p:nvSpPr>
        <p:spPr>
          <a:xfrm>
            <a:off x="1935000" y="159552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文本框 4"/>
          <p:cNvSpPr/>
          <p:nvPr/>
        </p:nvSpPr>
        <p:spPr>
          <a:xfrm>
            <a:off x="3360600" y="3906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3360600" y="153360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计 中奖 猜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左大括号 8"/>
          <p:cNvSpPr/>
          <p:nvPr/>
        </p:nvSpPr>
        <p:spPr>
          <a:xfrm>
            <a:off x="1887480" y="2814480"/>
            <a:ext cx="273240" cy="1382760"/>
          </a:xfrm>
          <a:custGeom>
            <a:avLst/>
            <a:gdLst>
              <a:gd name="textAreaLeft" fmla="*/ 174600 w 273240"/>
              <a:gd name="textAreaRight" fmla="*/ 273600 w 273240"/>
              <a:gd name="textAreaTop" fmla="*/ 68760 h 1382760"/>
              <a:gd name="textAreaBottom" fmla="*/ 131400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3"/>
                  <a:pt x="10800" y="3445"/>
                </a:cubicBezTo>
                <a:lnTo>
                  <a:pt x="10800" y="7355"/>
                </a:lnTo>
                <a:cubicBezTo>
                  <a:pt x="10800" y="9078"/>
                  <a:pt x="5400" y="10800"/>
                  <a:pt x="0" y="10800"/>
                </a:cubicBezTo>
                <a:cubicBezTo>
                  <a:pt x="5400" y="10800"/>
                  <a:pt x="10800" y="12523"/>
                  <a:pt x="10800" y="14245"/>
                </a:cubicBezTo>
                <a:lnTo>
                  <a:pt x="10800" y="18155"/>
                </a:lnTo>
                <a:cubicBezTo>
                  <a:pt x="10800" y="198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文本框 9"/>
          <p:cNvSpPr/>
          <p:nvPr/>
        </p:nvSpPr>
        <p:spPr>
          <a:xfrm>
            <a:off x="1935000" y="259380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文本框 10"/>
          <p:cNvSpPr/>
          <p:nvPr/>
        </p:nvSpPr>
        <p:spPr>
          <a:xfrm>
            <a:off x="1935000" y="3792600"/>
            <a:ext cx="16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文本框 11"/>
          <p:cNvSpPr/>
          <p:nvPr/>
        </p:nvSpPr>
        <p:spPr>
          <a:xfrm>
            <a:off x="3360600" y="253224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罚 处分 处理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文本框 12"/>
          <p:cNvSpPr/>
          <p:nvPr/>
        </p:nvSpPr>
        <p:spPr>
          <a:xfrm>
            <a:off x="3360600" y="3730680"/>
            <a:ext cx="38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到处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文本框 13"/>
          <p:cNvSpPr/>
          <p:nvPr/>
        </p:nvSpPr>
        <p:spPr>
          <a:xfrm>
            <a:off x="843120" y="87156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文本框 18"/>
          <p:cNvSpPr/>
          <p:nvPr/>
        </p:nvSpPr>
        <p:spPr>
          <a:xfrm>
            <a:off x="1986120" y="96840"/>
            <a:ext cx="7143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虚伪的；不真实的；伪造的；人造的（跟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真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相对）：～话  ～仁～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文本框 13"/>
          <p:cNvSpPr/>
          <p:nvPr/>
        </p:nvSpPr>
        <p:spPr>
          <a:xfrm>
            <a:off x="128520" y="96840"/>
            <a:ext cx="9050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文本框 3"/>
          <p:cNvSpPr/>
          <p:nvPr/>
        </p:nvSpPr>
        <p:spPr>
          <a:xfrm>
            <a:off x="1033560" y="96840"/>
            <a:ext cx="952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文本框 4"/>
          <p:cNvSpPr/>
          <p:nvPr/>
        </p:nvSpPr>
        <p:spPr>
          <a:xfrm>
            <a:off x="1986120" y="1370160"/>
            <a:ext cx="10002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假定：～设  ～说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假如：～若  ～使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借用：～公济私  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凭借；依靠：不～思索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文本框 5"/>
          <p:cNvSpPr/>
          <p:nvPr/>
        </p:nvSpPr>
        <p:spPr>
          <a:xfrm>
            <a:off x="1033560" y="2641680"/>
            <a:ext cx="952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文本框 6"/>
          <p:cNvSpPr/>
          <p:nvPr/>
        </p:nvSpPr>
        <p:spPr>
          <a:xfrm>
            <a:off x="1986120" y="2641680"/>
            <a:ext cx="1000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按照规定或经过批准暂时不工作或不学习的时间：请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文本框 1"/>
          <p:cNvSpPr/>
          <p:nvPr/>
        </p:nvSpPr>
        <p:spPr>
          <a:xfrm>
            <a:off x="128520" y="3611520"/>
            <a:ext cx="9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文本框 2"/>
          <p:cNvSpPr/>
          <p:nvPr/>
        </p:nvSpPr>
        <p:spPr>
          <a:xfrm>
            <a:off x="1033560" y="361152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文本框 19"/>
          <p:cNvSpPr/>
          <p:nvPr/>
        </p:nvSpPr>
        <p:spPr>
          <a:xfrm>
            <a:off x="1033560" y="488304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文本框 20"/>
          <p:cNvSpPr/>
          <p:nvPr/>
        </p:nvSpPr>
        <p:spPr>
          <a:xfrm>
            <a:off x="1986120" y="3611520"/>
            <a:ext cx="97153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小桌子：茶～  窗明～净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几乎：歼灭敌军～三千人。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姓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文本框 21"/>
          <p:cNvSpPr/>
          <p:nvPr/>
        </p:nvSpPr>
        <p:spPr>
          <a:xfrm>
            <a:off x="1986120" y="4883040"/>
            <a:ext cx="10004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疑问代词。询问数目（估计数目不太大）：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来了～个人？  你能在家住～天？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表示大于一而小于十的不定的数目：～本书  十～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2"/>
          <p:cNvSpPr/>
          <p:nvPr/>
        </p:nvSpPr>
        <p:spPr>
          <a:xfrm>
            <a:off x="318960" y="326880"/>
            <a:ext cx="9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文本框 14"/>
          <p:cNvSpPr/>
          <p:nvPr/>
        </p:nvSpPr>
        <p:spPr>
          <a:xfrm>
            <a:off x="1224000" y="326880"/>
            <a:ext cx="12272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ō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文本框 15"/>
          <p:cNvSpPr/>
          <p:nvPr/>
        </p:nvSpPr>
        <p:spPr>
          <a:xfrm>
            <a:off x="1224000" y="5141880"/>
            <a:ext cx="1228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ò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文本框 16"/>
          <p:cNvSpPr/>
          <p:nvPr/>
        </p:nvSpPr>
        <p:spPr>
          <a:xfrm>
            <a:off x="2452680" y="326880"/>
            <a:ext cx="94359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方位词。跟四周的距离相等；中心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指中国：～文  古今～外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范围内；内部：水～  家～  山～  心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位置在两端之间的：～秋  ～途  ～锋  ～指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等级在两端之间的：～农  ～学  ～型  ～等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6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不偏不倚：～庸  适～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7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中人：做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8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适于；合于：～用       </a:t>
            </a: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9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成；行；好：～不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0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方位词，用在动词后表示持续状态：运行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文本框 17"/>
          <p:cNvSpPr/>
          <p:nvPr/>
        </p:nvSpPr>
        <p:spPr>
          <a:xfrm>
            <a:off x="2452680" y="5141880"/>
            <a:ext cx="9439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正对上；恰好合上：～选  猜～  打～目标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受到；遭受：～毒  ～暑  ～枪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文本框 10"/>
          <p:cNvSpPr/>
          <p:nvPr/>
        </p:nvSpPr>
        <p:spPr>
          <a:xfrm>
            <a:off x="895320" y="397368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ù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文本框 9"/>
          <p:cNvSpPr/>
          <p:nvPr/>
        </p:nvSpPr>
        <p:spPr>
          <a:xfrm>
            <a:off x="893880" y="38736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文本框 16"/>
          <p:cNvSpPr/>
          <p:nvPr/>
        </p:nvSpPr>
        <p:spPr>
          <a:xfrm>
            <a:off x="2176560" y="338040"/>
            <a:ext cx="94359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居住：穴居野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跟别人一起生活；交往：～得来 ～不来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置身在（某地、某情况等）：～变不惊 设身～地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处置；办理：～理 ～事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5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处罚：～治 论～ 惩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6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姓。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文本框 17"/>
          <p:cNvSpPr/>
          <p:nvPr/>
        </p:nvSpPr>
        <p:spPr>
          <a:xfrm>
            <a:off x="2173320" y="3973680"/>
            <a:ext cx="9439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地方：住～ 心灵深～ 大～着眼，小～着手。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机关组织系统中按业务职能划分的单位（级别一般比局低，比科高），也只某些机关：科研～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15968"/>
                </a:solidFill>
                <a:uFillTx/>
                <a:latin typeface="楷体"/>
                <a:ea typeface="楷体"/>
              </a:rPr>
              <a:t>总务～ 办事～ 联络～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文本框 19"/>
          <p:cNvSpPr/>
          <p:nvPr/>
        </p:nvSpPr>
        <p:spPr>
          <a:xfrm>
            <a:off x="317520" y="387360"/>
            <a:ext cx="90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7"/>
          <p:cNvSpPr/>
          <p:nvPr/>
        </p:nvSpPr>
        <p:spPr>
          <a:xfrm>
            <a:off x="239760" y="272880"/>
            <a:ext cx="55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样的多音字我还知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3" name="文本框 17"/>
          <p:cNvSpPr/>
          <p:nvPr/>
        </p:nvSpPr>
        <p:spPr>
          <a:xfrm>
            <a:off x="571680" y="1679400"/>
            <a:ext cx="9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左大括号 18"/>
          <p:cNvSpPr/>
          <p:nvPr/>
        </p:nvSpPr>
        <p:spPr>
          <a:xfrm>
            <a:off x="1617840" y="1449360"/>
            <a:ext cx="190440" cy="1382760"/>
          </a:xfrm>
          <a:custGeom>
            <a:avLst/>
            <a:gdLst>
              <a:gd name="textAreaLeft" fmla="*/ 121680 w 190440"/>
              <a:gd name="textAreaRight" fmla="*/ 190800 w 190440"/>
              <a:gd name="textAreaTop" fmla="*/ 47880 h 1382760"/>
              <a:gd name="textAreaBottom" fmla="*/ 133488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2"/>
                  <a:pt x="10800" y="2403"/>
                </a:cubicBezTo>
                <a:lnTo>
                  <a:pt x="10800" y="8397"/>
                </a:lnTo>
                <a:cubicBezTo>
                  <a:pt x="10800" y="9599"/>
                  <a:pt x="5400" y="10800"/>
                  <a:pt x="0" y="10800"/>
                </a:cubicBezTo>
                <a:cubicBezTo>
                  <a:pt x="5400" y="10800"/>
                  <a:pt x="10800" y="12002"/>
                  <a:pt x="10800" y="13203"/>
                </a:cubicBezTo>
                <a:lnTo>
                  <a:pt x="10800" y="19197"/>
                </a:lnTo>
                <a:cubicBezTo>
                  <a:pt x="10800" y="20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1663560" y="12286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1663560" y="24256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2773440" y="116676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力 压缩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2773440" y="230364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压板 压根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文本框 23"/>
          <p:cNvSpPr/>
          <p:nvPr/>
        </p:nvSpPr>
        <p:spPr>
          <a:xfrm>
            <a:off x="571680" y="3971880"/>
            <a:ext cx="9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左大括号 24"/>
          <p:cNvSpPr/>
          <p:nvPr/>
        </p:nvSpPr>
        <p:spPr>
          <a:xfrm>
            <a:off x="1617840" y="3656160"/>
            <a:ext cx="190440" cy="1604880"/>
          </a:xfrm>
          <a:custGeom>
            <a:avLst/>
            <a:gdLst>
              <a:gd name="textAreaLeft" fmla="*/ 121680 w 190440"/>
              <a:gd name="textAreaRight" fmla="*/ 190800 w 190440"/>
              <a:gd name="textAreaTop" fmla="*/ 47880 h 1604880"/>
              <a:gd name="textAreaBottom" fmla="*/ 1557000 h 16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5"/>
                  <a:pt x="10800" y="2070"/>
                </a:cubicBezTo>
                <a:lnTo>
                  <a:pt x="10800" y="8730"/>
                </a:lnTo>
                <a:cubicBezTo>
                  <a:pt x="10800" y="9765"/>
                  <a:pt x="5400" y="10800"/>
                  <a:pt x="0" y="10800"/>
                </a:cubicBezTo>
                <a:cubicBezTo>
                  <a:pt x="5400" y="10800"/>
                  <a:pt x="10800" y="11835"/>
                  <a:pt x="10800" y="12870"/>
                </a:cubicBezTo>
                <a:lnTo>
                  <a:pt x="10800" y="19530"/>
                </a:lnTo>
                <a:cubicBezTo>
                  <a:pt x="10800" y="2056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文本框 25"/>
          <p:cNvSpPr/>
          <p:nvPr/>
        </p:nvSpPr>
        <p:spPr>
          <a:xfrm>
            <a:off x="1663560" y="343548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2" name="文本框 26"/>
          <p:cNvSpPr/>
          <p:nvPr/>
        </p:nvSpPr>
        <p:spPr>
          <a:xfrm>
            <a:off x="1663560" y="41655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文本框 27"/>
          <p:cNvSpPr/>
          <p:nvPr/>
        </p:nvSpPr>
        <p:spPr>
          <a:xfrm>
            <a:off x="2773440" y="337356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别 差错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文本框 28"/>
          <p:cNvSpPr/>
          <p:nvPr/>
        </p:nvSpPr>
        <p:spPr>
          <a:xfrm>
            <a:off x="2773440" y="484200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出差 差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5" name="文本框 29"/>
          <p:cNvSpPr/>
          <p:nvPr/>
        </p:nvSpPr>
        <p:spPr>
          <a:xfrm>
            <a:off x="1663560" y="490392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i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6" name="文本框 30"/>
          <p:cNvSpPr/>
          <p:nvPr/>
        </p:nvSpPr>
        <p:spPr>
          <a:xfrm>
            <a:off x="2773440" y="4079880"/>
            <a:ext cx="30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差劲 差不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7" name="文本框 31"/>
          <p:cNvSpPr/>
          <p:nvPr/>
        </p:nvSpPr>
        <p:spPr>
          <a:xfrm>
            <a:off x="6367320" y="3971880"/>
            <a:ext cx="9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8" name="左大括号 32"/>
          <p:cNvSpPr/>
          <p:nvPr/>
        </p:nvSpPr>
        <p:spPr>
          <a:xfrm>
            <a:off x="7412040" y="3741840"/>
            <a:ext cx="189000" cy="1382760"/>
          </a:xfrm>
          <a:custGeom>
            <a:avLst/>
            <a:gdLst>
              <a:gd name="textAreaLeft" fmla="*/ 120960 w 189000"/>
              <a:gd name="textAreaRight" fmla="*/ 189360 w 189000"/>
              <a:gd name="textAreaTop" fmla="*/ 47520 h 1382760"/>
              <a:gd name="textAreaBottom" fmla="*/ 1335240 h 138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2"/>
                  <a:pt x="10800" y="2383"/>
                </a:cubicBezTo>
                <a:lnTo>
                  <a:pt x="10800" y="8417"/>
                </a:lnTo>
                <a:cubicBezTo>
                  <a:pt x="10800" y="9609"/>
                  <a:pt x="5400" y="10800"/>
                  <a:pt x="0" y="10800"/>
                </a:cubicBezTo>
                <a:cubicBezTo>
                  <a:pt x="5400" y="10800"/>
                  <a:pt x="10800" y="11992"/>
                  <a:pt x="10800" y="13183"/>
                </a:cubicBezTo>
                <a:lnTo>
                  <a:pt x="10800" y="19217"/>
                </a:lnTo>
                <a:cubicBezTo>
                  <a:pt x="10800" y="204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9" name="文本框 33"/>
          <p:cNvSpPr/>
          <p:nvPr/>
        </p:nvSpPr>
        <p:spPr>
          <a:xfrm>
            <a:off x="7459560" y="352116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ā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文本框 34"/>
          <p:cNvSpPr/>
          <p:nvPr/>
        </p:nvSpPr>
        <p:spPr>
          <a:xfrm>
            <a:off x="7459560" y="4719600"/>
            <a:ext cx="11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文本框 35"/>
          <p:cNvSpPr/>
          <p:nvPr/>
        </p:nvSpPr>
        <p:spPr>
          <a:xfrm>
            <a:off x="8566200" y="345924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刀叉 叉烧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文本框 36"/>
          <p:cNvSpPr/>
          <p:nvPr/>
        </p:nvSpPr>
        <p:spPr>
          <a:xfrm>
            <a:off x="8566200" y="4595760"/>
            <a:ext cx="30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分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文本框 12"/>
          <p:cNvSpPr/>
          <p:nvPr/>
        </p:nvSpPr>
        <p:spPr>
          <a:xfrm>
            <a:off x="290520" y="192240"/>
            <a:ext cx="116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下面的成语有什么特点？你还能说出类似的成语吗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45720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发百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文本框 2"/>
          <p:cNvSpPr/>
          <p:nvPr/>
        </p:nvSpPr>
        <p:spPr>
          <a:xfrm>
            <a:off x="441792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面八方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文本框 3"/>
          <p:cNvSpPr/>
          <p:nvPr/>
        </p:nvSpPr>
        <p:spPr>
          <a:xfrm>
            <a:off x="8377200" y="1359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上八下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文本框 5"/>
          <p:cNvSpPr/>
          <p:nvPr/>
        </p:nvSpPr>
        <p:spPr>
          <a:xfrm>
            <a:off x="45720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战百胜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文本框 6"/>
          <p:cNvSpPr/>
          <p:nvPr/>
        </p:nvSpPr>
        <p:spPr>
          <a:xfrm>
            <a:off x="441792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通八达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文本框 7"/>
          <p:cNvSpPr/>
          <p:nvPr/>
        </p:nvSpPr>
        <p:spPr>
          <a:xfrm>
            <a:off x="8377200" y="288432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嘴八舌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文本框 9"/>
          <p:cNvSpPr/>
          <p:nvPr/>
        </p:nvSpPr>
        <p:spPr>
          <a:xfrm>
            <a:off x="45720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依百顺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文本框 10"/>
          <p:cNvSpPr/>
          <p:nvPr/>
        </p:nvSpPr>
        <p:spPr>
          <a:xfrm>
            <a:off x="441792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平八稳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文本框 11"/>
          <p:cNvSpPr/>
          <p:nvPr/>
        </p:nvSpPr>
        <p:spPr>
          <a:xfrm>
            <a:off x="8377200" y="441000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手八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圆角矩形标注 14"/>
          <p:cNvSpPr/>
          <p:nvPr/>
        </p:nvSpPr>
        <p:spPr>
          <a:xfrm>
            <a:off x="9612360" y="260280"/>
            <a:ext cx="2374920" cy="2809800"/>
          </a:xfrm>
          <a:prstGeom prst="wedgeRoundRectCallout">
            <a:avLst>
              <a:gd name="adj1" fmla="val -78328"/>
              <a:gd name="adj2" fmla="val 49500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这些成语都带有两个数字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4" name="文本框 15"/>
          <p:cNvSpPr/>
          <p:nvPr/>
        </p:nvSpPr>
        <p:spPr>
          <a:xfrm>
            <a:off x="203040" y="89064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发百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5" name="文本框 16"/>
          <p:cNvSpPr/>
          <p:nvPr/>
        </p:nvSpPr>
        <p:spPr>
          <a:xfrm>
            <a:off x="2862360" y="89064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面八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6" name="文本框 17"/>
          <p:cNvSpPr/>
          <p:nvPr/>
        </p:nvSpPr>
        <p:spPr>
          <a:xfrm>
            <a:off x="5505480" y="89064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上八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7" name="文本框 18"/>
          <p:cNvSpPr/>
          <p:nvPr/>
        </p:nvSpPr>
        <p:spPr>
          <a:xfrm>
            <a:off x="203040" y="20988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战百胜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8" name="文本框 19"/>
          <p:cNvSpPr/>
          <p:nvPr/>
        </p:nvSpPr>
        <p:spPr>
          <a:xfrm>
            <a:off x="2862360" y="209880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通八达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9" name="文本框 20"/>
          <p:cNvSpPr/>
          <p:nvPr/>
        </p:nvSpPr>
        <p:spPr>
          <a:xfrm>
            <a:off x="5505480" y="20988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嘴八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0" name="文本框 21"/>
          <p:cNvSpPr/>
          <p:nvPr/>
        </p:nvSpPr>
        <p:spPr>
          <a:xfrm>
            <a:off x="203040" y="33084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百依百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文本框 22"/>
          <p:cNvSpPr/>
          <p:nvPr/>
        </p:nvSpPr>
        <p:spPr>
          <a:xfrm>
            <a:off x="2862360" y="330840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四平八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2" name="文本框 23"/>
          <p:cNvSpPr/>
          <p:nvPr/>
        </p:nvSpPr>
        <p:spPr>
          <a:xfrm>
            <a:off x="5505480" y="330840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七手八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3" name="文本框 24"/>
          <p:cNvSpPr/>
          <p:nvPr/>
        </p:nvSpPr>
        <p:spPr>
          <a:xfrm>
            <a:off x="203040" y="441972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百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百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4" name="文本框 25"/>
          <p:cNvSpPr/>
          <p:nvPr/>
        </p:nvSpPr>
        <p:spPr>
          <a:xfrm>
            <a:off x="2862360" y="441972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四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八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5" name="文本框 26"/>
          <p:cNvSpPr/>
          <p:nvPr/>
        </p:nvSpPr>
        <p:spPr>
          <a:xfrm>
            <a:off x="5505480" y="4419720"/>
            <a:ext cx="22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七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八</a:t>
            </a:r>
            <a:r>
              <a:rPr b="0" i="1" lang="zh-CN" sz="40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7"/>
          <p:cNvSpPr/>
          <p:nvPr/>
        </p:nvSpPr>
        <p:spPr>
          <a:xfrm>
            <a:off x="239760" y="272880"/>
            <a:ext cx="558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这样的成语我还知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文本框 1"/>
          <p:cNvSpPr/>
          <p:nvPr/>
        </p:nvSpPr>
        <p:spPr>
          <a:xfrm>
            <a:off x="457200" y="11746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方百计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文本框 2"/>
          <p:cNvSpPr/>
          <p:nvPr/>
        </p:nvSpPr>
        <p:spPr>
          <a:xfrm>
            <a:off x="4417920" y="11746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模一样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文本框 3"/>
          <p:cNvSpPr/>
          <p:nvPr/>
        </p:nvSpPr>
        <p:spPr>
          <a:xfrm>
            <a:off x="457200" y="575928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娇百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文本框 5"/>
          <p:cNvSpPr/>
          <p:nvPr/>
        </p:nvSpPr>
        <p:spPr>
          <a:xfrm>
            <a:off x="45720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锤百炼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文本框 6"/>
          <p:cNvSpPr/>
          <p:nvPr/>
        </p:nvSpPr>
        <p:spPr>
          <a:xfrm>
            <a:off x="441792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生一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文本框 4"/>
          <p:cNvSpPr/>
          <p:nvPr/>
        </p:nvSpPr>
        <p:spPr>
          <a:xfrm>
            <a:off x="8377200" y="270036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心二意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文本框 9"/>
          <p:cNvSpPr/>
          <p:nvPr/>
        </p:nvSpPr>
        <p:spPr>
          <a:xfrm>
            <a:off x="45720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千疮百孔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4" name="文本框 10"/>
          <p:cNvSpPr/>
          <p:nvPr/>
        </p:nvSpPr>
        <p:spPr>
          <a:xfrm>
            <a:off x="441792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五一十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5" name="文本框 11"/>
          <p:cNvSpPr/>
          <p:nvPr/>
        </p:nvSpPr>
        <p:spPr>
          <a:xfrm>
            <a:off x="8377200" y="4226040"/>
            <a:ext cx="33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言两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12"/>
          <p:cNvSpPr/>
          <p:nvPr/>
        </p:nvSpPr>
        <p:spPr>
          <a:xfrm>
            <a:off x="351000" y="177840"/>
            <a:ext cx="11491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读句子，说说你有什么发现，照样子写一写，注意引号的用法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文本框 15"/>
          <p:cNvSpPr/>
          <p:nvPr/>
        </p:nvSpPr>
        <p:spPr>
          <a:xfrm>
            <a:off x="646200" y="1800360"/>
            <a:ext cx="109029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鸟儿问女孩：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小姑娘，请告诉我，你知道火柴在哪儿吗？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救命啊！救命啊！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红头拼命地叫了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202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哎呀，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狐狸说道，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原来是这样！你这是给我设了一个圈套啊！</a:t>
            </a:r>
            <a:r>
              <a:rPr b="0" i="1" lang="en-US" sz="36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6" descr=""/>
          <p:cNvPicPr/>
          <p:nvPr/>
        </p:nvPicPr>
        <p:blipFill>
          <a:blip r:embed="rId1"/>
          <a:srcRect l="0" t="14685" r="72004" b="61220"/>
          <a:stretch/>
        </p:blipFill>
        <p:spPr>
          <a:xfrm>
            <a:off x="357120" y="235080"/>
            <a:ext cx="2384640" cy="23493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5" descr=""/>
          <p:cNvPicPr/>
          <p:nvPr/>
        </p:nvPicPr>
        <p:blipFill>
          <a:blip r:embed="rId2"/>
          <a:srcRect l="74786" t="14685" r="0" b="61220"/>
          <a:stretch/>
        </p:blipFill>
        <p:spPr>
          <a:xfrm>
            <a:off x="476280" y="4278240"/>
            <a:ext cx="2146320" cy="235116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"/>
          <p:cNvPicPr/>
          <p:nvPr/>
        </p:nvPicPr>
        <p:blipFill>
          <a:blip r:embed="rId3"/>
          <a:srcRect l="22672" t="39518" r="52351" b="35996"/>
          <a:stretch/>
        </p:blipFill>
        <p:spPr>
          <a:xfrm>
            <a:off x="7456320" y="2235240"/>
            <a:ext cx="2127240" cy="2387520"/>
          </a:xfrm>
          <a:prstGeom prst="rect">
            <a:avLst/>
          </a:prstGeom>
          <a:ln w="0">
            <a:noFill/>
          </a:ln>
        </p:spPr>
      </p:pic>
      <p:sp>
        <p:nvSpPr>
          <p:cNvPr id="741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我发现这些句子都用了拟人手法，把动物当成人来写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圆角矩形标注 9"/>
          <p:cNvSpPr/>
          <p:nvPr/>
        </p:nvSpPr>
        <p:spPr>
          <a:xfrm>
            <a:off x="1201680" y="2627280"/>
            <a:ext cx="594828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我发现这些句子都是写的小动物们说的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圆角矩形标注 10"/>
          <p:cNvSpPr/>
          <p:nvPr/>
        </p:nvSpPr>
        <p:spPr>
          <a:xfrm>
            <a:off x="2622600" y="4881600"/>
            <a:ext cx="4216320" cy="142380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我发现说话的部分都用了双引号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3" descr=""/>
          <p:cNvPicPr/>
          <p:nvPr/>
        </p:nvPicPr>
        <p:blipFill>
          <a:blip r:embed="rId1"/>
          <a:srcRect l="11245" t="7875" r="70920" b="66875"/>
          <a:stretch/>
        </p:blipFill>
        <p:spPr>
          <a:xfrm>
            <a:off x="10358280" y="2606760"/>
            <a:ext cx="1298880" cy="141120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4" descr=""/>
          <p:cNvPicPr/>
          <p:nvPr/>
        </p:nvPicPr>
        <p:blipFill>
          <a:blip r:embed="rId2"/>
          <a:srcRect l="57823" t="8252" r="24343" b="66498"/>
          <a:stretch/>
        </p:blipFill>
        <p:spPr>
          <a:xfrm>
            <a:off x="203040" y="3801960"/>
            <a:ext cx="1300320" cy="141156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5" descr=""/>
          <p:cNvPicPr/>
          <p:nvPr/>
        </p:nvPicPr>
        <p:blipFill>
          <a:blip r:embed="rId3"/>
          <a:srcRect l="33831" t="8802" r="48340" b="65954"/>
          <a:stretch/>
        </p:blipFill>
        <p:spPr>
          <a:xfrm>
            <a:off x="10358280" y="5429160"/>
            <a:ext cx="1298880" cy="140976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6" descr=""/>
          <p:cNvPicPr/>
          <p:nvPr/>
        </p:nvPicPr>
        <p:blipFill>
          <a:blip r:embed="rId4"/>
          <a:srcRect l="3041" t="53700" r="79125" b="23187"/>
          <a:stretch/>
        </p:blipFill>
        <p:spPr>
          <a:xfrm>
            <a:off x="203040" y="1101600"/>
            <a:ext cx="1300320" cy="129060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标注 7"/>
          <p:cNvSpPr/>
          <p:nvPr/>
        </p:nvSpPr>
        <p:spPr>
          <a:xfrm>
            <a:off x="1503360" y="1101600"/>
            <a:ext cx="8854920" cy="1290600"/>
          </a:xfrm>
          <a:prstGeom prst="wedgeRoundRectCallout">
            <a:avLst>
              <a:gd name="adj1" fmla="val -51893"/>
              <a:gd name="adj2" fmla="val -33768"/>
              <a:gd name="adj3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一边读，一边预测后面的内容，可以帮助我们更好地理解文章的意思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圆角矩形标注 8"/>
          <p:cNvSpPr/>
          <p:nvPr/>
        </p:nvSpPr>
        <p:spPr>
          <a:xfrm>
            <a:off x="1333440" y="2511360"/>
            <a:ext cx="8856720" cy="1290600"/>
          </a:xfrm>
          <a:prstGeom prst="wedgeRoundRectCallout">
            <a:avLst>
              <a:gd name="adj1" fmla="val 51490"/>
              <a:gd name="adj2" fmla="val -19504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为了预测得更准确，我读书更仔细了，注意到了更多的细节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圆角矩形标注 10"/>
          <p:cNvSpPr/>
          <p:nvPr/>
        </p:nvSpPr>
        <p:spPr>
          <a:xfrm>
            <a:off x="1503360" y="3922560"/>
            <a:ext cx="8854920" cy="1290960"/>
          </a:xfrm>
          <a:prstGeom prst="wedgeRoundRectCallout">
            <a:avLst>
              <a:gd name="adj1" fmla="val -51893"/>
              <a:gd name="adj2" fmla="val -33768"/>
              <a:gd name="adj3" fmla="val 16667"/>
            </a:avLst>
          </a:prstGeom>
          <a:solidFill>
            <a:srgbClr val="737373"/>
          </a:solidFill>
          <a:ln w="1260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d0d0d"/>
                </a:solidFill>
                <a:uFillTx/>
                <a:latin typeface="楷体"/>
                <a:ea typeface="楷体"/>
              </a:rPr>
              <a:t>我在图书馆里找书看时，会先看标题，猜猜书的大致内容，再决定要不要看这本书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圆角矩形标注 11"/>
          <p:cNvSpPr/>
          <p:nvPr/>
        </p:nvSpPr>
        <p:spPr>
          <a:xfrm>
            <a:off x="1333440" y="5332320"/>
            <a:ext cx="8856720" cy="1290600"/>
          </a:xfrm>
          <a:prstGeom prst="wedgeRoundRectCallout">
            <a:avLst>
              <a:gd name="adj1" fmla="val 51490"/>
              <a:gd name="adj2" fmla="val -19504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查找资料时，也可以用预测的方法判断资料是否有用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5" name="组合 15"/>
          <p:cNvGrpSpPr/>
          <p:nvPr/>
        </p:nvGrpSpPr>
        <p:grpSpPr>
          <a:xfrm>
            <a:off x="406440" y="182520"/>
            <a:ext cx="3220920" cy="714240"/>
            <a:chOff x="406440" y="182520"/>
            <a:chExt cx="3220920" cy="714240"/>
          </a:xfrm>
        </p:grpSpPr>
        <p:pic>
          <p:nvPicPr>
            <p:cNvPr id="516" name="图片 1" descr="PPT图标蓝色"/>
            <p:cNvPicPr/>
            <p:nvPr/>
          </p:nvPicPr>
          <p:blipFill>
            <a:blip r:embed="rId5"/>
            <a:srcRect l="14815" t="0" r="0" b="0"/>
            <a:stretch/>
          </p:blipFill>
          <p:spPr>
            <a:xfrm>
              <a:off x="406440" y="18252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Box 76"/>
            <p:cNvSpPr/>
            <p:nvPr/>
          </p:nvSpPr>
          <p:spPr>
            <a:xfrm>
              <a:off x="406440" y="190800"/>
              <a:ext cx="230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交流平台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1"/>
          <p:cNvSpPr/>
          <p:nvPr/>
        </p:nvSpPr>
        <p:spPr>
          <a:xfrm>
            <a:off x="222120" y="304920"/>
            <a:ext cx="78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引号的基本用法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直接引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文本框 15"/>
          <p:cNvSpPr/>
          <p:nvPr/>
        </p:nvSpPr>
        <p:spPr>
          <a:xfrm>
            <a:off x="109440" y="1073160"/>
            <a:ext cx="74678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鸟儿问女孩：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小姑娘，请告诉我，你知道火柴在哪儿吗？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救命啊！救命啊！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红头拼命地叫了起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4a452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哎呀，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狐狸说道，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原来是这样！你这是给我设了一个圈套啊！</a:t>
            </a:r>
            <a:r>
              <a:rPr b="0" i="1" lang="en-US" sz="3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6" descr=""/>
          <p:cNvPicPr/>
          <p:nvPr/>
        </p:nvPicPr>
        <p:blipFill>
          <a:blip r:embed="rId1"/>
          <a:srcRect l="0" t="14685" r="72004" b="61220"/>
          <a:stretch/>
        </p:blipFill>
        <p:spPr>
          <a:xfrm>
            <a:off x="357120" y="235080"/>
            <a:ext cx="2384640" cy="234936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2"/>
          <a:srcRect l="74786" t="14685" r="0" b="61220"/>
          <a:stretch/>
        </p:blipFill>
        <p:spPr>
          <a:xfrm>
            <a:off x="476280" y="4278240"/>
            <a:ext cx="2146320" cy="235116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7" descr=""/>
          <p:cNvPicPr/>
          <p:nvPr/>
        </p:nvPicPr>
        <p:blipFill>
          <a:blip r:embed="rId3"/>
          <a:srcRect l="22672" t="39518" r="52351" b="35996"/>
          <a:stretch/>
        </p:blipFill>
        <p:spPr>
          <a:xfrm>
            <a:off x="7456320" y="2235240"/>
            <a:ext cx="2127240" cy="2387520"/>
          </a:xfrm>
          <a:prstGeom prst="rect">
            <a:avLst/>
          </a:prstGeom>
          <a:ln w="0">
            <a:noFill/>
          </a:ln>
        </p:spPr>
      </p:pic>
      <p:sp>
        <p:nvSpPr>
          <p:cNvPr id="749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第一句是说话者在前，说的话在后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圆角矩形标注 9"/>
          <p:cNvSpPr/>
          <p:nvPr/>
        </p:nvSpPr>
        <p:spPr>
          <a:xfrm>
            <a:off x="1201680" y="2627280"/>
            <a:ext cx="594828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第二句是说的话在前，说话者在后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圆角矩形标注 10"/>
          <p:cNvSpPr/>
          <p:nvPr/>
        </p:nvSpPr>
        <p:spPr>
          <a:xfrm>
            <a:off x="2622600" y="4729320"/>
            <a:ext cx="4216320" cy="190008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第三句是说话者在中间，前后都有说的话的情况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文本框 7"/>
          <p:cNvSpPr/>
          <p:nvPr/>
        </p:nvSpPr>
        <p:spPr>
          <a:xfrm>
            <a:off x="222120" y="304920"/>
            <a:ext cx="78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引号的基本用法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直接引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文本框 15"/>
          <p:cNvSpPr/>
          <p:nvPr/>
        </p:nvSpPr>
        <p:spPr>
          <a:xfrm>
            <a:off x="109440" y="1165320"/>
            <a:ext cx="795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直接引用就是指把说的话完整地记录下来，根据说话者在句中的位置可以分为三种情况，分别是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文本框 8"/>
          <p:cNvSpPr/>
          <p:nvPr/>
        </p:nvSpPr>
        <p:spPr>
          <a:xfrm>
            <a:off x="868320" y="3841920"/>
            <a:ext cx="450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中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1e1c11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说话人在后面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文本框 12"/>
          <p:cNvSpPr/>
          <p:nvPr/>
        </p:nvSpPr>
        <p:spPr>
          <a:xfrm>
            <a:off x="7926480" y="3335400"/>
            <a:ext cx="4016160" cy="1361160"/>
          </a:xfrm>
          <a:prstGeom prst="rect">
            <a:avLst/>
          </a:prstGeom>
          <a:noFill/>
          <a:ln w="44280">
            <a:solidFill>
              <a:srgbClr val="385d8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53735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3200" spc="-1" strike="noStrike" u="sng">
                <a:solidFill>
                  <a:srgbClr val="953735"/>
                </a:solidFill>
                <a:uFillTx/>
                <a:latin typeface="Arial"/>
                <a:ea typeface="宋体"/>
              </a:rPr>
              <a:t>一定要注意逗号、冒号、引号、句号在句中的位置和用法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文本框 15"/>
          <p:cNvSpPr/>
          <p:nvPr/>
        </p:nvSpPr>
        <p:spPr>
          <a:xfrm>
            <a:off x="646200" y="1000080"/>
            <a:ext cx="1090296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人心齐，泰山移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二人同心，其利断金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三个臭皮匠，顶个诸葛亮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685800" indent="-685800">
              <a:lnSpc>
                <a:spcPct val="16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个篱笆三个桩，一个好汉三个帮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57" name="组合 1"/>
          <p:cNvGrpSpPr/>
          <p:nvPr/>
        </p:nvGrpSpPr>
        <p:grpSpPr>
          <a:xfrm>
            <a:off x="406440" y="182520"/>
            <a:ext cx="3220920" cy="714240"/>
            <a:chOff x="406440" y="182520"/>
            <a:chExt cx="3220920" cy="714240"/>
          </a:xfrm>
        </p:grpSpPr>
        <p:pic>
          <p:nvPicPr>
            <p:cNvPr id="758" name="图片 2" descr="PPT图标蓝色"/>
            <p:cNvPicPr/>
            <p:nvPr/>
          </p:nvPicPr>
          <p:blipFill>
            <a:blip r:embed="rId1"/>
            <a:srcRect l="14815" t="0" r="0" b="0"/>
            <a:stretch/>
          </p:blipFill>
          <p:spPr>
            <a:xfrm>
              <a:off x="406440" y="182520"/>
              <a:ext cx="32209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Box 76"/>
            <p:cNvSpPr/>
            <p:nvPr/>
          </p:nvSpPr>
          <p:spPr>
            <a:xfrm>
              <a:off x="406440" y="190800"/>
              <a:ext cx="230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日积月累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图片 5" descr=""/>
          <p:cNvPicPr/>
          <p:nvPr/>
        </p:nvPicPr>
        <p:blipFill>
          <a:blip r:embed="rId1"/>
          <a:srcRect l="48981" t="14441" r="24850" b="61287"/>
          <a:stretch/>
        </p:blipFill>
        <p:spPr>
          <a:xfrm>
            <a:off x="141120" y="4260960"/>
            <a:ext cx="2229120" cy="23684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7" descr=""/>
          <p:cNvPicPr/>
          <p:nvPr/>
        </p:nvPicPr>
        <p:blipFill>
          <a:blip r:embed="rId2"/>
          <a:srcRect l="-152" t="15069" r="71767" b="60445"/>
          <a:stretch/>
        </p:blipFill>
        <p:spPr>
          <a:xfrm>
            <a:off x="7396200" y="2235240"/>
            <a:ext cx="2415960" cy="2387520"/>
          </a:xfrm>
          <a:prstGeom prst="rect">
            <a:avLst/>
          </a:prstGeom>
          <a:ln w="0">
            <a:noFill/>
          </a:ln>
        </p:spPr>
      </p:pic>
      <p:sp>
        <p:nvSpPr>
          <p:cNvPr id="762" name="圆角矩形标注 8"/>
          <p:cNvSpPr/>
          <p:nvPr/>
        </p:nvSpPr>
        <p:spPr>
          <a:xfrm>
            <a:off x="2997360" y="371520"/>
            <a:ext cx="5948280" cy="1603440"/>
          </a:xfrm>
          <a:prstGeom prst="wedgeRoundRectCallout">
            <a:avLst>
              <a:gd name="adj1" fmla="val -53898"/>
              <a:gd name="adj2" fmla="val -30398"/>
              <a:gd name="adj3" fmla="val 16667"/>
            </a:avLst>
          </a:prstGeom>
          <a:solidFill>
            <a:srgbClr val="e7e6ed"/>
          </a:solidFill>
          <a:ln w="12600">
            <a:solidFill>
              <a:srgbClr val="dad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我知道这些谚语都是告诉我们团结一心的重要性的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圆角矩形标注 9"/>
          <p:cNvSpPr/>
          <p:nvPr/>
        </p:nvSpPr>
        <p:spPr>
          <a:xfrm>
            <a:off x="1187280" y="2627280"/>
            <a:ext cx="5948640" cy="1603440"/>
          </a:xfrm>
          <a:prstGeom prst="wedgeRoundRectCallout">
            <a:avLst>
              <a:gd name="adj1" fmla="val 55166"/>
              <a:gd name="adj2" fmla="val -30398"/>
              <a:gd name="adj3" fmla="val 16667"/>
            </a:avLst>
          </a:prstGeom>
          <a:solidFill>
            <a:srgbClr val="f3f3ff"/>
          </a:solidFill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团结友爱，和谐互助很重要，在生活学习中都应该这样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4" name="圆角矩形标注 10"/>
          <p:cNvSpPr/>
          <p:nvPr/>
        </p:nvSpPr>
        <p:spPr>
          <a:xfrm>
            <a:off x="2622600" y="4729320"/>
            <a:ext cx="4216320" cy="1900080"/>
          </a:xfrm>
          <a:prstGeom prst="wedgeRoundRectCallout">
            <a:avLst>
              <a:gd name="adj1" fmla="val -53129"/>
              <a:gd name="adj2" fmla="val -25601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这四句谚语我都会背了，我还另外收集了一些同类谚语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5" name="图片 1" descr=""/>
          <p:cNvPicPr/>
          <p:nvPr/>
        </p:nvPicPr>
        <p:blipFill>
          <a:blip r:embed="rId3"/>
          <a:srcRect l="40203" t="62549" r="26732" b="11806"/>
          <a:stretch/>
        </p:blipFill>
        <p:spPr>
          <a:xfrm>
            <a:off x="141120" y="20520"/>
            <a:ext cx="2816280" cy="25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7"/>
          <p:cNvSpPr/>
          <p:nvPr/>
        </p:nvSpPr>
        <p:spPr>
          <a:xfrm>
            <a:off x="360360" y="457200"/>
            <a:ext cx="783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关于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团结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的谚语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文本框 15"/>
          <p:cNvSpPr/>
          <p:nvPr/>
        </p:nvSpPr>
        <p:spPr>
          <a:xfrm>
            <a:off x="1414440" y="1287360"/>
            <a:ext cx="7950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人多山倒，力众海移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柴多火焰高，人多办法好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星多天空亮，人多智慧广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众人一条心，黄土变成金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砖连砖成墙，瓦连瓦成房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3"/>
          <p:cNvSpPr/>
          <p:nvPr/>
        </p:nvSpPr>
        <p:spPr>
          <a:xfrm>
            <a:off x="820800" y="390600"/>
            <a:ext cx="5084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学习新方法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预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9" name="文本框 4"/>
          <p:cNvSpPr/>
          <p:nvPr/>
        </p:nvSpPr>
        <p:spPr>
          <a:xfrm>
            <a:off x="1389240" y="1341360"/>
            <a:ext cx="941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不是随意猜测，要有一定的依据（原文内容、生活经验或生活常识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)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是大胆想象，只要合理并与原文保持一致就可以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buClr>
                <a:srgbClr val="000000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预测的结果可能与实际结局一样，也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可能与实际结局不一样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3"/>
          <p:cNvSpPr/>
          <p:nvPr/>
        </p:nvSpPr>
        <p:spPr>
          <a:xfrm>
            <a:off x="552600" y="4581360"/>
            <a:ext cx="11088360" cy="194328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文本框 12"/>
          <p:cNvSpPr/>
          <p:nvPr/>
        </p:nvSpPr>
        <p:spPr>
          <a:xfrm>
            <a:off x="431640" y="981000"/>
            <a:ext cx="1132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你认识下面这些加点的字吗？查字典认一认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文本框 1"/>
          <p:cNvSpPr/>
          <p:nvPr/>
        </p:nvSpPr>
        <p:spPr>
          <a:xfrm>
            <a:off x="2408400" y="186228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字典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文本框 2"/>
          <p:cNvSpPr/>
          <p:nvPr/>
        </p:nvSpPr>
        <p:spPr>
          <a:xfrm>
            <a:off x="5106960" y="1862280"/>
            <a:ext cx="19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基础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文本框 13"/>
          <p:cNvSpPr/>
          <p:nvPr/>
        </p:nvSpPr>
        <p:spPr>
          <a:xfrm>
            <a:off x="7799400" y="186228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阁楼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14"/>
          <p:cNvSpPr/>
          <p:nvPr/>
        </p:nvSpPr>
        <p:spPr>
          <a:xfrm>
            <a:off x="2408400" y="308916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佳节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文本框 15"/>
          <p:cNvSpPr/>
          <p:nvPr/>
        </p:nvSpPr>
        <p:spPr>
          <a:xfrm>
            <a:off x="7799400" y="3089160"/>
            <a:ext cx="197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巩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文本框 16"/>
          <p:cNvSpPr/>
          <p:nvPr/>
        </p:nvSpPr>
        <p:spPr>
          <a:xfrm>
            <a:off x="5106960" y="3089160"/>
            <a:ext cx="19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盲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直接连接符 17"/>
          <p:cNvSpPr/>
          <p:nvPr/>
        </p:nvSpPr>
        <p:spPr>
          <a:xfrm>
            <a:off x="914400" y="5213520"/>
            <a:ext cx="10363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文本框 20"/>
          <p:cNvSpPr/>
          <p:nvPr/>
        </p:nvSpPr>
        <p:spPr>
          <a:xfrm>
            <a:off x="5551560" y="520236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阁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文本框 21"/>
          <p:cNvSpPr/>
          <p:nvPr/>
        </p:nvSpPr>
        <p:spPr>
          <a:xfrm>
            <a:off x="7066080" y="5216400"/>
            <a:ext cx="11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佳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文本框 22"/>
          <p:cNvSpPr/>
          <p:nvPr/>
        </p:nvSpPr>
        <p:spPr>
          <a:xfrm>
            <a:off x="8580600" y="5216400"/>
            <a:ext cx="11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盲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文本框 23"/>
          <p:cNvSpPr/>
          <p:nvPr/>
        </p:nvSpPr>
        <p:spPr>
          <a:xfrm>
            <a:off x="1008000" y="5187960"/>
            <a:ext cx="11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典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文本框 24"/>
          <p:cNvSpPr/>
          <p:nvPr/>
        </p:nvSpPr>
        <p:spPr>
          <a:xfrm>
            <a:off x="2522520" y="520236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基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文本框 25"/>
          <p:cNvSpPr/>
          <p:nvPr/>
        </p:nvSpPr>
        <p:spPr>
          <a:xfrm>
            <a:off x="4037040" y="5202360"/>
            <a:ext cx="11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础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26"/>
          <p:cNvSpPr/>
          <p:nvPr/>
        </p:nvSpPr>
        <p:spPr>
          <a:xfrm>
            <a:off x="81432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diǎn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文本框 27"/>
          <p:cNvSpPr/>
          <p:nvPr/>
        </p:nvSpPr>
        <p:spPr>
          <a:xfrm>
            <a:off x="2328840" y="4508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文本框 28"/>
          <p:cNvSpPr/>
          <p:nvPr/>
        </p:nvSpPr>
        <p:spPr>
          <a:xfrm>
            <a:off x="384336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ǔ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5357880" y="4481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gé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6872400" y="449568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32"/>
          <p:cNvSpPr/>
          <p:nvPr/>
        </p:nvSpPr>
        <p:spPr>
          <a:xfrm>
            <a:off x="8386920" y="4481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má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文本框 33"/>
          <p:cNvSpPr/>
          <p:nvPr/>
        </p:nvSpPr>
        <p:spPr>
          <a:xfrm>
            <a:off x="10094760" y="5216400"/>
            <a:ext cx="11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10243f"/>
                </a:solidFill>
                <a:uFillTx/>
                <a:latin typeface="楷体"/>
                <a:ea typeface="楷体"/>
              </a:rPr>
              <a:t>唐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直接连接符 34"/>
          <p:cNvSpPr/>
          <p:nvPr/>
        </p:nvSpPr>
        <p:spPr>
          <a:xfrm>
            <a:off x="914400" y="6384960"/>
            <a:ext cx="10363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文本框 35"/>
          <p:cNvSpPr/>
          <p:nvPr/>
        </p:nvSpPr>
        <p:spPr>
          <a:xfrm>
            <a:off x="9901080" y="450864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tá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4" name="图片 37" descr=""/>
          <p:cNvPicPr/>
          <p:nvPr/>
        </p:nvPicPr>
        <p:blipFill>
          <a:blip r:embed="rId1"/>
          <a:srcRect l="3517" t="26107" r="56301" b="33796"/>
          <a:stretch/>
        </p:blipFill>
        <p:spPr>
          <a:xfrm>
            <a:off x="3611520" y="2781360"/>
            <a:ext cx="492120" cy="4474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8" descr=""/>
          <p:cNvPicPr/>
          <p:nvPr/>
        </p:nvPicPr>
        <p:blipFill>
          <a:blip r:embed="rId2"/>
          <a:srcRect l="3517" t="26107" r="56301" b="33796"/>
          <a:stretch/>
        </p:blipFill>
        <p:spPr>
          <a:xfrm>
            <a:off x="540216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39" descr=""/>
          <p:cNvPicPr/>
          <p:nvPr/>
        </p:nvPicPr>
        <p:blipFill>
          <a:blip r:embed="rId3"/>
          <a:srcRect l="3517" t="26107" r="56301" b="33796"/>
          <a:stretch/>
        </p:blipFill>
        <p:spPr>
          <a:xfrm>
            <a:off x="636912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4"/>
          <a:srcRect l="3517" t="26107" r="56301" b="33796"/>
          <a:stretch/>
        </p:blipFill>
        <p:spPr>
          <a:xfrm>
            <a:off x="8204040" y="2781360"/>
            <a:ext cx="495360" cy="4474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5"/>
          <a:srcRect l="3517" t="26107" r="56301" b="33796"/>
          <a:stretch/>
        </p:blipFill>
        <p:spPr>
          <a:xfrm>
            <a:off x="2813040" y="3978360"/>
            <a:ext cx="493560" cy="44748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3" descr=""/>
          <p:cNvPicPr/>
          <p:nvPr/>
        </p:nvPicPr>
        <p:blipFill>
          <a:blip r:embed="rId6"/>
          <a:srcRect l="3517" t="26107" r="56301" b="33796"/>
          <a:stretch/>
        </p:blipFill>
        <p:spPr>
          <a:xfrm>
            <a:off x="5402160" y="3994200"/>
            <a:ext cx="495360" cy="4460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44" descr=""/>
          <p:cNvPicPr/>
          <p:nvPr/>
        </p:nvPicPr>
        <p:blipFill>
          <a:blip r:embed="rId7"/>
          <a:srcRect l="3517" t="26107" r="56301" b="33796"/>
          <a:stretch/>
        </p:blipFill>
        <p:spPr>
          <a:xfrm>
            <a:off x="8101080" y="3978360"/>
            <a:ext cx="495360" cy="447480"/>
          </a:xfrm>
          <a:prstGeom prst="rect">
            <a:avLst/>
          </a:prstGeom>
          <a:ln w="0">
            <a:noFill/>
          </a:ln>
        </p:spPr>
      </p:pic>
      <p:grpSp>
        <p:nvGrpSpPr>
          <p:cNvPr id="551" name="组合 4"/>
          <p:cNvGrpSpPr/>
          <p:nvPr/>
        </p:nvGrpSpPr>
        <p:grpSpPr>
          <a:xfrm>
            <a:off x="406440" y="182520"/>
            <a:ext cx="4129200" cy="714240"/>
            <a:chOff x="406440" y="182520"/>
            <a:chExt cx="4129200" cy="714240"/>
          </a:xfrm>
        </p:grpSpPr>
        <p:pic>
          <p:nvPicPr>
            <p:cNvPr id="552" name="图片 5" descr="PPT图标蓝色"/>
            <p:cNvPicPr/>
            <p:nvPr/>
          </p:nvPicPr>
          <p:blipFill>
            <a:blip r:embed="rId8"/>
            <a:srcRect l="14815" t="0" r="0" b="0"/>
            <a:stretch/>
          </p:blipFill>
          <p:spPr>
            <a:xfrm>
              <a:off x="406440" y="182520"/>
              <a:ext cx="41292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76"/>
            <p:cNvSpPr/>
            <p:nvPr/>
          </p:nvSpPr>
          <p:spPr>
            <a:xfrm>
              <a:off x="406440" y="190800"/>
              <a:ext cx="295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识字加油站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1" descr=""/>
          <p:cNvPicPr/>
          <p:nvPr/>
        </p:nvPicPr>
        <p:blipFill>
          <a:blip r:embed="rId1"/>
          <a:srcRect l="0" t="0" r="46087" b="0"/>
          <a:stretch/>
        </p:blipFill>
        <p:spPr>
          <a:xfrm>
            <a:off x="-49320" y="-19080"/>
            <a:ext cx="6613560" cy="689616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3"/>
          <p:cNvSpPr/>
          <p:nvPr/>
        </p:nvSpPr>
        <p:spPr>
          <a:xfrm>
            <a:off x="1309680" y="880920"/>
            <a:ext cx="52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查字典（拼音查字法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3697200" y="2185920"/>
          <a:ext cx="8259840" cy="3768840"/>
        </p:xfrm>
        <a:graphic>
          <a:graphicData uri="http://schemas.openxmlformats.org/drawingml/2006/table">
            <a:tbl>
              <a:tblPr/>
              <a:tblGrid>
                <a:gridCol w="1376280"/>
                <a:gridCol w="1376280"/>
                <a:gridCol w="1378080"/>
                <a:gridCol w="1378080"/>
                <a:gridCol w="1374840"/>
                <a:gridCol w="1376280"/>
              </a:tblGrid>
              <a:tr h="71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序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节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序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音节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典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佳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基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盲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础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唐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阁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7" name="文本框 4"/>
          <p:cNvSpPr/>
          <p:nvPr/>
        </p:nvSpPr>
        <p:spPr>
          <a:xfrm>
            <a:off x="5465880" y="2879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D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文本框 5"/>
          <p:cNvSpPr/>
          <p:nvPr/>
        </p:nvSpPr>
        <p:spPr>
          <a:xfrm>
            <a:off x="6499440" y="2879640"/>
            <a:ext cx="12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diǎ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文本框 6"/>
          <p:cNvSpPr/>
          <p:nvPr/>
        </p:nvSpPr>
        <p:spPr>
          <a:xfrm>
            <a:off x="5576040" y="3648240"/>
            <a:ext cx="3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文本框 7"/>
          <p:cNvSpPr/>
          <p:nvPr/>
        </p:nvSpPr>
        <p:spPr>
          <a:xfrm>
            <a:off x="5488560" y="4416480"/>
            <a:ext cx="5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C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文本框 9"/>
          <p:cNvSpPr/>
          <p:nvPr/>
        </p:nvSpPr>
        <p:spPr>
          <a:xfrm>
            <a:off x="6911640" y="3645000"/>
            <a:ext cx="4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ī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文本框 10"/>
          <p:cNvSpPr/>
          <p:nvPr/>
        </p:nvSpPr>
        <p:spPr>
          <a:xfrm>
            <a:off x="6604560" y="4454640"/>
            <a:ext cx="10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chǔ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3" name="文本框 12"/>
          <p:cNvSpPr/>
          <p:nvPr/>
        </p:nvSpPr>
        <p:spPr>
          <a:xfrm>
            <a:off x="5462640" y="5222880"/>
            <a:ext cx="5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4" name="文本框 13"/>
          <p:cNvSpPr/>
          <p:nvPr/>
        </p:nvSpPr>
        <p:spPr>
          <a:xfrm>
            <a:off x="9620640" y="4454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T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文本框 14"/>
          <p:cNvSpPr/>
          <p:nvPr/>
        </p:nvSpPr>
        <p:spPr>
          <a:xfrm>
            <a:off x="9525600" y="3686040"/>
            <a:ext cx="65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M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文本框 15"/>
          <p:cNvSpPr/>
          <p:nvPr/>
        </p:nvSpPr>
        <p:spPr>
          <a:xfrm>
            <a:off x="9684720" y="2879640"/>
            <a:ext cx="33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文本框 16"/>
          <p:cNvSpPr/>
          <p:nvPr/>
        </p:nvSpPr>
        <p:spPr>
          <a:xfrm>
            <a:off x="6755760" y="5222880"/>
            <a:ext cx="78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gé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文本框 17"/>
          <p:cNvSpPr/>
          <p:nvPr/>
        </p:nvSpPr>
        <p:spPr>
          <a:xfrm>
            <a:off x="10903680" y="2876400"/>
            <a:ext cx="78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ji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文本框 18"/>
          <p:cNvSpPr/>
          <p:nvPr/>
        </p:nvSpPr>
        <p:spPr>
          <a:xfrm>
            <a:off x="10480320" y="368604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má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文本框 19"/>
          <p:cNvSpPr/>
          <p:nvPr/>
        </p:nvSpPr>
        <p:spPr>
          <a:xfrm>
            <a:off x="10636920" y="4454640"/>
            <a:ext cx="13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t</a:t>
            </a: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宋体"/>
                <a:ea typeface="宋体"/>
              </a:rPr>
              <a:t>á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图片 1" descr=""/>
          <p:cNvPicPr/>
          <p:nvPr/>
        </p:nvPicPr>
        <p:blipFill>
          <a:blip r:embed="rId1"/>
          <a:srcRect l="0" t="0" r="46087" b="0"/>
          <a:stretch/>
        </p:blipFill>
        <p:spPr>
          <a:xfrm>
            <a:off x="-49320" y="-19080"/>
            <a:ext cx="6613560" cy="689616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3"/>
          <p:cNvSpPr/>
          <p:nvPr/>
        </p:nvSpPr>
        <p:spPr>
          <a:xfrm>
            <a:off x="1309680" y="880920"/>
            <a:ext cx="5254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查字典（部首查字法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697200" y="2185920"/>
          <a:ext cx="8259840" cy="4359240"/>
        </p:xfrm>
        <a:graphic>
          <a:graphicData uri="http://schemas.openxmlformats.org/drawingml/2006/table">
            <a:tbl>
              <a:tblPr/>
              <a:tblGrid>
                <a:gridCol w="841320"/>
                <a:gridCol w="1206720"/>
                <a:gridCol w="1930320"/>
                <a:gridCol w="930240"/>
                <a:gridCol w="1285920"/>
                <a:gridCol w="206532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部首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除部首外几画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部首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除部首外几画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典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佳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基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盲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础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唐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000" spc="-1" strike="noStrike" u="sng">
                          <a:solidFill>
                            <a:srgbClr val="10243f"/>
                          </a:solidFill>
                          <a:uFillTx/>
                          <a:latin typeface="楷体"/>
                          <a:ea typeface="楷体"/>
                        </a:rPr>
                        <a:t>阁</a:t>
                      </a:r>
                      <a:endParaRPr b="0" i="1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4" name="文本框 4"/>
          <p:cNvSpPr/>
          <p:nvPr/>
        </p:nvSpPr>
        <p:spPr>
          <a:xfrm>
            <a:off x="490212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八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490212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490212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石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文本框 8"/>
          <p:cNvSpPr/>
          <p:nvPr/>
        </p:nvSpPr>
        <p:spPr>
          <a:xfrm>
            <a:off x="646920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文本框 10"/>
          <p:cNvSpPr/>
          <p:nvPr/>
        </p:nvSpPr>
        <p:spPr>
          <a:xfrm>
            <a:off x="646920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5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文本框 11"/>
          <p:cNvSpPr/>
          <p:nvPr/>
        </p:nvSpPr>
        <p:spPr>
          <a:xfrm>
            <a:off x="646920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8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文本框 12"/>
          <p:cNvSpPr/>
          <p:nvPr/>
        </p:nvSpPr>
        <p:spPr>
          <a:xfrm>
            <a:off x="4902120" y="5775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门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文本框 13"/>
          <p:cNvSpPr/>
          <p:nvPr/>
        </p:nvSpPr>
        <p:spPr>
          <a:xfrm>
            <a:off x="905328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亻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文本框 14"/>
          <p:cNvSpPr/>
          <p:nvPr/>
        </p:nvSpPr>
        <p:spPr>
          <a:xfrm>
            <a:off x="905328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目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15"/>
          <p:cNvSpPr/>
          <p:nvPr/>
        </p:nvSpPr>
        <p:spPr>
          <a:xfrm>
            <a:off x="905328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广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文本框 16"/>
          <p:cNvSpPr/>
          <p:nvPr/>
        </p:nvSpPr>
        <p:spPr>
          <a:xfrm>
            <a:off x="6469200" y="5775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文本框 17"/>
          <p:cNvSpPr/>
          <p:nvPr/>
        </p:nvSpPr>
        <p:spPr>
          <a:xfrm>
            <a:off x="10653840" y="34704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6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文本框 18"/>
          <p:cNvSpPr/>
          <p:nvPr/>
        </p:nvSpPr>
        <p:spPr>
          <a:xfrm>
            <a:off x="10653840" y="423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3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文本框 19"/>
          <p:cNvSpPr/>
          <p:nvPr/>
        </p:nvSpPr>
        <p:spPr>
          <a:xfrm>
            <a:off x="10653840" y="500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4a452a"/>
                </a:solidFill>
                <a:uFillTx/>
                <a:latin typeface="楷体_GB2312"/>
                <a:ea typeface="楷体_GB2312"/>
              </a:rPr>
              <a:t>7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3"/>
          <p:cNvSpPr/>
          <p:nvPr/>
        </p:nvSpPr>
        <p:spPr>
          <a:xfrm>
            <a:off x="544680" y="433224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仿宋_GB2312"/>
                <a:ea typeface="仿宋_GB2312"/>
              </a:rPr>
              <a:t>部首查字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文本框 4"/>
          <p:cNvSpPr/>
          <p:nvPr/>
        </p:nvSpPr>
        <p:spPr>
          <a:xfrm>
            <a:off x="544680" y="14191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10243f"/>
                </a:solidFill>
                <a:uFillTx/>
                <a:latin typeface="仿宋_GB2312"/>
                <a:ea typeface="仿宋_GB2312"/>
              </a:rPr>
              <a:t>拼音查字法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左大括号 5"/>
          <p:cNvSpPr/>
          <p:nvPr/>
        </p:nvSpPr>
        <p:spPr>
          <a:xfrm>
            <a:off x="3530520" y="787320"/>
            <a:ext cx="222480" cy="1968480"/>
          </a:xfrm>
          <a:custGeom>
            <a:avLst/>
            <a:gdLst>
              <a:gd name="textAreaLeft" fmla="*/ 142200 w 222480"/>
              <a:gd name="textAreaRight" fmla="*/ 222840 w 222480"/>
              <a:gd name="textAreaTop" fmla="*/ 56160 h 1968480"/>
              <a:gd name="textAreaBottom" fmla="*/ 1912320 h 196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5"/>
                  <a:pt x="10800" y="1969"/>
                </a:cubicBezTo>
                <a:lnTo>
                  <a:pt x="10800" y="8831"/>
                </a:lnTo>
                <a:cubicBezTo>
                  <a:pt x="10800" y="9816"/>
                  <a:pt x="5400" y="10800"/>
                  <a:pt x="0" y="10800"/>
                </a:cubicBezTo>
                <a:cubicBezTo>
                  <a:pt x="5400" y="10800"/>
                  <a:pt x="10800" y="11785"/>
                  <a:pt x="10800" y="12769"/>
                </a:cubicBezTo>
                <a:lnTo>
                  <a:pt x="10800" y="19631"/>
                </a:lnTo>
                <a:cubicBezTo>
                  <a:pt x="10800" y="206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左大括号 6"/>
          <p:cNvSpPr/>
          <p:nvPr/>
        </p:nvSpPr>
        <p:spPr>
          <a:xfrm>
            <a:off x="3530520" y="3700440"/>
            <a:ext cx="222480" cy="1970280"/>
          </a:xfrm>
          <a:custGeom>
            <a:avLst/>
            <a:gdLst>
              <a:gd name="textAreaLeft" fmla="*/ 142200 w 222480"/>
              <a:gd name="textAreaRight" fmla="*/ 222840 w 222480"/>
              <a:gd name="textAreaTop" fmla="*/ 56160 h 1970280"/>
              <a:gd name="textAreaBottom" fmla="*/ 1914120 h 19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4"/>
                  <a:pt x="10800" y="1968"/>
                </a:cubicBezTo>
                <a:lnTo>
                  <a:pt x="10800" y="8832"/>
                </a:lnTo>
                <a:cubicBezTo>
                  <a:pt x="10800" y="9816"/>
                  <a:pt x="5400" y="10800"/>
                  <a:pt x="0" y="10800"/>
                </a:cubicBezTo>
                <a:cubicBezTo>
                  <a:pt x="5400" y="10800"/>
                  <a:pt x="10800" y="11784"/>
                  <a:pt x="10800" y="12768"/>
                </a:cubicBezTo>
                <a:lnTo>
                  <a:pt x="10800" y="19632"/>
                </a:lnTo>
                <a:cubicBezTo>
                  <a:pt x="10800" y="206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3905280" y="54288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会读不会写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文本框 8"/>
          <p:cNvSpPr/>
          <p:nvPr/>
        </p:nvSpPr>
        <p:spPr>
          <a:xfrm>
            <a:off x="3905280" y="14191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认识的字查词语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文本框 9"/>
          <p:cNvSpPr/>
          <p:nvPr/>
        </p:nvSpPr>
        <p:spPr>
          <a:xfrm>
            <a:off x="3905280" y="230040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认识的字释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文本框 10"/>
          <p:cNvSpPr/>
          <p:nvPr/>
        </p:nvSpPr>
        <p:spPr>
          <a:xfrm>
            <a:off x="3905280" y="344484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文本框 11"/>
          <p:cNvSpPr/>
          <p:nvPr/>
        </p:nvSpPr>
        <p:spPr>
          <a:xfrm>
            <a:off x="3905280" y="433224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组词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文本框 12"/>
          <p:cNvSpPr/>
          <p:nvPr/>
        </p:nvSpPr>
        <p:spPr>
          <a:xfrm>
            <a:off x="3905280" y="522432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词语释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36"/>
          <p:cNvSpPr/>
          <p:nvPr/>
        </p:nvSpPr>
        <p:spPr>
          <a:xfrm>
            <a:off x="552600" y="1957320"/>
            <a:ext cx="11349000" cy="464364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文本框 12"/>
          <p:cNvSpPr/>
          <p:nvPr/>
        </p:nvSpPr>
        <p:spPr>
          <a:xfrm>
            <a:off x="431640" y="1054080"/>
            <a:ext cx="1132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e1c11"/>
                </a:solidFill>
                <a:uFillTx/>
                <a:latin typeface="楷体"/>
                <a:ea typeface="楷体"/>
              </a:rPr>
              <a:t>读词语，根据加点字的意思读准字音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文本框 1"/>
          <p:cNvSpPr/>
          <p:nvPr/>
        </p:nvSpPr>
        <p:spPr>
          <a:xfrm>
            <a:off x="919080" y="2125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文本框 2"/>
          <p:cNvSpPr/>
          <p:nvPr/>
        </p:nvSpPr>
        <p:spPr>
          <a:xfrm>
            <a:off x="3706920" y="215568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日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文本框 3"/>
          <p:cNvSpPr/>
          <p:nvPr/>
        </p:nvSpPr>
        <p:spPr>
          <a:xfrm>
            <a:off x="6489720" y="2125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扮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文本框 4"/>
          <p:cNvSpPr/>
          <p:nvPr/>
        </p:nvSpPr>
        <p:spPr>
          <a:xfrm>
            <a:off x="9275760" y="21258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假装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文本框 5"/>
          <p:cNvSpPr/>
          <p:nvPr/>
        </p:nvSpPr>
        <p:spPr>
          <a:xfrm>
            <a:off x="919080" y="3214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几乎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文本框 6"/>
          <p:cNvSpPr/>
          <p:nvPr/>
        </p:nvSpPr>
        <p:spPr>
          <a:xfrm>
            <a:off x="3706920" y="324468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几百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文本框 7"/>
          <p:cNvSpPr/>
          <p:nvPr/>
        </p:nvSpPr>
        <p:spPr>
          <a:xfrm>
            <a:off x="6489720" y="3214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茶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文本框 8"/>
          <p:cNvSpPr/>
          <p:nvPr/>
        </p:nvSpPr>
        <p:spPr>
          <a:xfrm>
            <a:off x="8783640" y="3214800"/>
            <a:ext cx="295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窗明几净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文本框 9"/>
          <p:cNvSpPr/>
          <p:nvPr/>
        </p:nvSpPr>
        <p:spPr>
          <a:xfrm>
            <a:off x="919080" y="43038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毒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文本框 10"/>
          <p:cNvSpPr/>
          <p:nvPr/>
        </p:nvSpPr>
        <p:spPr>
          <a:xfrm>
            <a:off x="3706920" y="433404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奖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文本框 11"/>
          <p:cNvSpPr/>
          <p:nvPr/>
        </p:nvSpPr>
        <p:spPr>
          <a:xfrm>
            <a:off x="6489720" y="43038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中间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文本框 13"/>
          <p:cNvSpPr/>
          <p:nvPr/>
        </p:nvSpPr>
        <p:spPr>
          <a:xfrm>
            <a:off x="9275760" y="43038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猜中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文本框 14"/>
          <p:cNvSpPr/>
          <p:nvPr/>
        </p:nvSpPr>
        <p:spPr>
          <a:xfrm>
            <a:off x="919080" y="5378400"/>
            <a:ext cx="19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文本框 15"/>
          <p:cNvSpPr/>
          <p:nvPr/>
        </p:nvSpPr>
        <p:spPr>
          <a:xfrm>
            <a:off x="3706920" y="540864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文本框 16"/>
          <p:cNvSpPr/>
          <p:nvPr/>
        </p:nvSpPr>
        <p:spPr>
          <a:xfrm>
            <a:off x="6489720" y="537840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到处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文本框 17"/>
          <p:cNvSpPr/>
          <p:nvPr/>
        </p:nvSpPr>
        <p:spPr>
          <a:xfrm>
            <a:off x="9275760" y="5378400"/>
            <a:ext cx="19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处理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图片 38" descr=""/>
          <p:cNvPicPr/>
          <p:nvPr/>
        </p:nvPicPr>
        <p:blipFill>
          <a:blip r:embed="rId1"/>
          <a:srcRect l="3517" t="26107" r="56301" b="33796"/>
          <a:stretch/>
        </p:blipFill>
        <p:spPr>
          <a:xfrm>
            <a:off x="1373040" y="2940120"/>
            <a:ext cx="303480" cy="27468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8" descr=""/>
          <p:cNvPicPr/>
          <p:nvPr/>
        </p:nvPicPr>
        <p:blipFill>
          <a:blip r:embed="rId2"/>
          <a:srcRect l="3517" t="26107" r="56301" b="33796"/>
          <a:stretch/>
        </p:blipFill>
        <p:spPr>
          <a:xfrm>
            <a:off x="9802800" y="618804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9" descr=""/>
          <p:cNvPicPr/>
          <p:nvPr/>
        </p:nvPicPr>
        <p:blipFill>
          <a:blip r:embed="rId3"/>
          <a:srcRect l="3517" t="26107" r="56301" b="33796"/>
          <a:stretch/>
        </p:blipFill>
        <p:spPr>
          <a:xfrm>
            <a:off x="7628040" y="618804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20" descr=""/>
          <p:cNvPicPr/>
          <p:nvPr/>
        </p:nvPicPr>
        <p:blipFill>
          <a:blip r:embed="rId4"/>
          <a:srcRect l="3517" t="26107" r="56301" b="33796"/>
          <a:stretch/>
        </p:blipFill>
        <p:spPr>
          <a:xfrm>
            <a:off x="4199040" y="618804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21" descr=""/>
          <p:cNvPicPr/>
          <p:nvPr/>
        </p:nvPicPr>
        <p:blipFill>
          <a:blip r:embed="rId5"/>
          <a:srcRect l="3517" t="26107" r="56301" b="33796"/>
          <a:stretch/>
        </p:blipFill>
        <p:spPr>
          <a:xfrm>
            <a:off x="1373040" y="618804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22" descr=""/>
          <p:cNvPicPr/>
          <p:nvPr/>
        </p:nvPicPr>
        <p:blipFill>
          <a:blip r:embed="rId6"/>
          <a:srcRect l="3517" t="26107" r="56301" b="33796"/>
          <a:stretch/>
        </p:blipFill>
        <p:spPr>
          <a:xfrm>
            <a:off x="1048536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23" descr=""/>
          <p:cNvPicPr/>
          <p:nvPr/>
        </p:nvPicPr>
        <p:blipFill>
          <a:blip r:embed="rId7"/>
          <a:srcRect l="3517" t="26107" r="56301" b="33796"/>
          <a:stretch/>
        </p:blipFill>
        <p:spPr>
          <a:xfrm>
            <a:off x="699300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24" descr=""/>
          <p:cNvPicPr/>
          <p:nvPr/>
        </p:nvPicPr>
        <p:blipFill>
          <a:blip r:embed="rId8"/>
          <a:srcRect l="3517" t="26107" r="56301" b="33796"/>
          <a:stretch/>
        </p:blipFill>
        <p:spPr>
          <a:xfrm>
            <a:off x="4199040" y="510228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25" descr=""/>
          <p:cNvPicPr/>
          <p:nvPr/>
        </p:nvPicPr>
        <p:blipFill>
          <a:blip r:embed="rId9"/>
          <a:srcRect l="3517" t="26107" r="56301" b="33796"/>
          <a:stretch/>
        </p:blipFill>
        <p:spPr>
          <a:xfrm>
            <a:off x="1373040" y="5102280"/>
            <a:ext cx="303480" cy="27612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26" descr=""/>
          <p:cNvPicPr/>
          <p:nvPr/>
        </p:nvPicPr>
        <p:blipFill>
          <a:blip r:embed="rId10"/>
          <a:srcRect l="3517" t="26107" r="56301" b="33796"/>
          <a:stretch/>
        </p:blipFill>
        <p:spPr>
          <a:xfrm>
            <a:off x="10485360" y="395604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27" descr=""/>
          <p:cNvPicPr/>
          <p:nvPr/>
        </p:nvPicPr>
        <p:blipFill>
          <a:blip r:embed="rId11"/>
          <a:srcRect l="3517" t="26107" r="56301" b="33796"/>
          <a:stretch/>
        </p:blipFill>
        <p:spPr>
          <a:xfrm>
            <a:off x="7628040" y="39355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28" descr=""/>
          <p:cNvPicPr/>
          <p:nvPr/>
        </p:nvPicPr>
        <p:blipFill>
          <a:blip r:embed="rId12"/>
          <a:srcRect l="3517" t="26107" r="56301" b="33796"/>
          <a:stretch/>
        </p:blipFill>
        <p:spPr>
          <a:xfrm>
            <a:off x="4199040" y="39355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29" descr=""/>
          <p:cNvPicPr/>
          <p:nvPr/>
        </p:nvPicPr>
        <p:blipFill>
          <a:blip r:embed="rId13"/>
          <a:srcRect l="3517" t="26107" r="56301" b="33796"/>
          <a:stretch/>
        </p:blipFill>
        <p:spPr>
          <a:xfrm>
            <a:off x="1373040" y="3935520"/>
            <a:ext cx="303480" cy="27468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30" descr=""/>
          <p:cNvPicPr/>
          <p:nvPr/>
        </p:nvPicPr>
        <p:blipFill>
          <a:blip r:embed="rId14"/>
          <a:srcRect l="3517" t="26107" r="56301" b="33796"/>
          <a:stretch/>
        </p:blipFill>
        <p:spPr>
          <a:xfrm>
            <a:off x="9802800" y="2940120"/>
            <a:ext cx="304920" cy="2746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1" descr=""/>
          <p:cNvPicPr/>
          <p:nvPr/>
        </p:nvPicPr>
        <p:blipFill>
          <a:blip r:embed="rId15"/>
          <a:srcRect l="3517" t="26107" r="56301" b="33796"/>
          <a:stretch/>
        </p:blipFill>
        <p:spPr>
          <a:xfrm>
            <a:off x="6993000" y="2940120"/>
            <a:ext cx="303120" cy="27468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2" descr=""/>
          <p:cNvPicPr/>
          <p:nvPr/>
        </p:nvPicPr>
        <p:blipFill>
          <a:blip r:embed="rId16"/>
          <a:srcRect l="3517" t="26107" r="56301" b="33796"/>
          <a:stretch/>
        </p:blipFill>
        <p:spPr>
          <a:xfrm>
            <a:off x="4199040" y="2940120"/>
            <a:ext cx="303120" cy="274680"/>
          </a:xfrm>
          <a:prstGeom prst="rect">
            <a:avLst/>
          </a:prstGeom>
          <a:ln w="0">
            <a:noFill/>
          </a:ln>
        </p:spPr>
      </p:pic>
      <p:grpSp>
        <p:nvGrpSpPr>
          <p:cNvPr id="632" name="组合 33"/>
          <p:cNvGrpSpPr/>
          <p:nvPr/>
        </p:nvGrpSpPr>
        <p:grpSpPr>
          <a:xfrm>
            <a:off x="406440" y="182520"/>
            <a:ext cx="4095720" cy="714240"/>
            <a:chOff x="406440" y="182520"/>
            <a:chExt cx="4095720" cy="714240"/>
          </a:xfrm>
        </p:grpSpPr>
        <p:pic>
          <p:nvPicPr>
            <p:cNvPr id="633" name="图片 34" descr="PPT图标蓝色"/>
            <p:cNvPicPr/>
            <p:nvPr/>
          </p:nvPicPr>
          <p:blipFill>
            <a:blip r:embed="rId17"/>
            <a:srcRect l="14815" t="0" r="0" b="0"/>
            <a:stretch/>
          </p:blipFill>
          <p:spPr>
            <a:xfrm>
              <a:off x="406440" y="182520"/>
              <a:ext cx="40957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Box 76"/>
            <p:cNvSpPr/>
            <p:nvPr/>
          </p:nvSpPr>
          <p:spPr>
            <a:xfrm>
              <a:off x="406440" y="190800"/>
              <a:ext cx="293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词句段运用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3"/>
          <p:cNvSpPr/>
          <p:nvPr/>
        </p:nvSpPr>
        <p:spPr>
          <a:xfrm>
            <a:off x="8240760" y="219240"/>
            <a:ext cx="998640" cy="25628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多音字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左大括号 5"/>
          <p:cNvSpPr/>
          <p:nvPr/>
        </p:nvSpPr>
        <p:spPr>
          <a:xfrm>
            <a:off x="1363680" y="863640"/>
            <a:ext cx="336600" cy="1668600"/>
          </a:xfrm>
          <a:custGeom>
            <a:avLst/>
            <a:gdLst>
              <a:gd name="textAreaLeft" fmla="*/ 215280 w 336600"/>
              <a:gd name="textAreaRight" fmla="*/ 336960 w 336600"/>
              <a:gd name="textAreaTop" fmla="*/ 84960 h 1668600"/>
              <a:gd name="textAreaBottom" fmla="*/ 1583640 h 16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0"/>
                  <a:pt x="10800" y="3519"/>
                </a:cubicBezTo>
                <a:lnTo>
                  <a:pt x="10800" y="7281"/>
                </a:lnTo>
                <a:cubicBezTo>
                  <a:pt x="10800" y="9041"/>
                  <a:pt x="5400" y="10800"/>
                  <a:pt x="0" y="10800"/>
                </a:cubicBezTo>
                <a:cubicBezTo>
                  <a:pt x="5400" y="10800"/>
                  <a:pt x="10800" y="12560"/>
                  <a:pt x="10800" y="14319"/>
                </a:cubicBezTo>
                <a:lnTo>
                  <a:pt x="10800" y="18081"/>
                </a:lnTo>
                <a:cubicBezTo>
                  <a:pt x="10800" y="198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文本框 7"/>
          <p:cNvSpPr/>
          <p:nvPr/>
        </p:nvSpPr>
        <p:spPr>
          <a:xfrm>
            <a:off x="380880" y="415620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文本框 1"/>
          <p:cNvSpPr/>
          <p:nvPr/>
        </p:nvSpPr>
        <p:spPr>
          <a:xfrm>
            <a:off x="1473120" y="6541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ǎ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文本框 2"/>
          <p:cNvSpPr/>
          <p:nvPr/>
        </p:nvSpPr>
        <p:spPr>
          <a:xfrm>
            <a:off x="1473120" y="21589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文本框 4"/>
          <p:cNvSpPr/>
          <p:nvPr/>
        </p:nvSpPr>
        <p:spPr>
          <a:xfrm>
            <a:off x="2900520" y="5922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扮 假装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文本框 6"/>
          <p:cNvSpPr/>
          <p:nvPr/>
        </p:nvSpPr>
        <p:spPr>
          <a:xfrm>
            <a:off x="2900520" y="20970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期 假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左大括号 8"/>
          <p:cNvSpPr/>
          <p:nvPr/>
        </p:nvSpPr>
        <p:spPr>
          <a:xfrm>
            <a:off x="1363680" y="3782880"/>
            <a:ext cx="336600" cy="1668600"/>
          </a:xfrm>
          <a:custGeom>
            <a:avLst/>
            <a:gdLst>
              <a:gd name="textAreaLeft" fmla="*/ 215280 w 336600"/>
              <a:gd name="textAreaRight" fmla="*/ 336960 w 336600"/>
              <a:gd name="textAreaTop" fmla="*/ 84960 h 1668600"/>
              <a:gd name="textAreaBottom" fmla="*/ 1583640 h 16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60"/>
                  <a:pt x="10800" y="3519"/>
                </a:cubicBezTo>
                <a:lnTo>
                  <a:pt x="10800" y="7281"/>
                </a:lnTo>
                <a:cubicBezTo>
                  <a:pt x="10800" y="9041"/>
                  <a:pt x="5400" y="10800"/>
                  <a:pt x="0" y="10800"/>
                </a:cubicBezTo>
                <a:cubicBezTo>
                  <a:pt x="5400" y="10800"/>
                  <a:pt x="10800" y="12560"/>
                  <a:pt x="10800" y="14319"/>
                </a:cubicBezTo>
                <a:lnTo>
                  <a:pt x="10800" y="18081"/>
                </a:lnTo>
                <a:cubicBezTo>
                  <a:pt x="10800" y="1984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文本框 9"/>
          <p:cNvSpPr/>
          <p:nvPr/>
        </p:nvSpPr>
        <p:spPr>
          <a:xfrm>
            <a:off x="1473120" y="35719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文本框 10"/>
          <p:cNvSpPr/>
          <p:nvPr/>
        </p:nvSpPr>
        <p:spPr>
          <a:xfrm>
            <a:off x="1473120" y="507852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ǐ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文本框 11"/>
          <p:cNvSpPr/>
          <p:nvPr/>
        </p:nvSpPr>
        <p:spPr>
          <a:xfrm>
            <a:off x="2900520" y="3511440"/>
            <a:ext cx="49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乎 茶几 窗明几净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文本框 12"/>
          <p:cNvSpPr/>
          <p:nvPr/>
        </p:nvSpPr>
        <p:spPr>
          <a:xfrm>
            <a:off x="2900520" y="5016600"/>
            <a:ext cx="38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几百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文本框 13"/>
          <p:cNvSpPr/>
          <p:nvPr/>
        </p:nvSpPr>
        <p:spPr>
          <a:xfrm>
            <a:off x="380880" y="123660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假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dc:language>en-US</dc:language>
  <cp:lastModifiedBy>万润仪器贸易公司</cp:lastModifiedBy>
  <dcterms:modified xsi:type="dcterms:W3CDTF">2020-08-19T03:30:30Z</dcterms:modified>
  <cp:revision>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